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41.jpeg" ContentType="image/jpeg"/>
  <Override PartName="/ppt/media/image38.jpeg" ContentType="image/jpeg"/>
  <Override PartName="/ppt/media/image34.png" ContentType="image/png"/>
  <Override PartName="/ppt/media/image40.jpeg" ContentType="image/jpeg"/>
  <Override PartName="/ppt/media/image1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20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77A9-B718-4A7B-B23B-546FEC508C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strono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ing to th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remy P. Carl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2ZL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frew County Amateur Radio Cl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17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strono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to th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remy P. Car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2ZL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frew County Amateur Radio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(Re)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te Reber, W9GF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a 9m parabolic d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is backyard in 19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ed fir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-sky radi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, 19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his 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 a post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oo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te Reber (1911-200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(Re)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te Reber, W9GF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 9m parabolic d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is backyard in 19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fir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-sky radi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, 19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his 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a post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boo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te Reber (1911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 adv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d wavelength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integration with studies at other wavelengths: visible, IR, x-ray,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r dishes = more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ometry = better angular re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al nature of radio waves: they probe both sedate, slow processes, and some of the most energetic phenomena in the univer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wavelengt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integration with studies at other wavelengths: visible, IR, x-ray, gam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dishes = more 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ometry = better angular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 nature of radio waves: they probe both sedate, slow processes, and some of the most energetic phenomena in the univer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stronom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observatories spanning the gl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area dishes for high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ly high resolution via interfer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between observatories for continuous 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of observatories at different waveleng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ing of solar activity crucial to “space weather” forecasting for the health of satellites &amp; electronic equipm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cib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r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Large Array (VLA), New 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stronom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bservatories spanning the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-area dishes for high 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ly high resolution via interfer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between observatories for continuous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of observatories at different waveleng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 of solar activity crucial to “space weather” forecasting for the health of satellites &amp; electronic equip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cib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Large Array (VLA), New 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Planets with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: surface obscured by permanent 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ar map by Magella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Planets with RA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: surface obscured by permanent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map by Magellan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Cold Gas in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 out star formation in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 out dynamics of gas 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31 visible light image             M31 in radio at CO reson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 G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Cold Gas in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out star formation in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out dynamics of gas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1 visible light image             M31 in radio at CO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ppler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Stellar Lif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the Stel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: Timekeepers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 sta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tical idea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wicky (1930’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celyn Bell Burnell &amp; Antony Hewish, 196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el Prize (Hewish), 19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sars: Timekeepers of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 sta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tical idea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wicky (1930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celyn Bell Burnell &amp; Antony Hewish, 196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el Prize (Hewish), 19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nova Remn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shock front: expanding material striking interstellar me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is the best tool for detecting new SN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seiopeia A Supernova Remnant                           Tycho’s Supernova Rem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ova Rem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emission from shock front: expanding material striking interstellar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is the best tool for detecting new SN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seiopeia A Supernova Remnant                           Tycho’s Supernova Rem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visible wavelengths this region is obscured by du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gr A = galactic center (supermassive black ho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d VLA / Green Bank Telescop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visible wavelengths this region is obscured by du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r A = galactic center (supermassive black h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d VLA / Green Bank Telescop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wavelength over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= radio, green = infrared, blue =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wavelength over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radio, green = infrared, blue =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y: Maxwell (1860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as special case of 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: Maxwell (1860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s special case of 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Galaxies: Supermassive 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aurus A (NGC 5128), overlay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nd visible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KS 2536-61.  Radio (red), optical (blu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Galaxies: Supermassive 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aurus A (NGC 5128), overla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nd visib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S 2536-61.  Radio (red), optical (b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MB:  Echo of the Big B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y prediction of Big Bang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k ~ 200 G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zias &amp; Wilson, 196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6 Nobel Pr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 (1989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6 Nobel Prize, Smoot &amp; M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AP (2001), Planck (20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scale and int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se fluctuation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ingent limits on cosmological mod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iverse = 13.7 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MB:  Echo of the Big B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rediction of Big Ban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 ~ 200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zias &amp; Wilson, 196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6 Nobel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BE (1989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 Nobel Prize, Smoot &amp; M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AP (2001), Planck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scale and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se fluctuation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ent limits on cosmological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verse = 13.7 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I: The Search for Intelligent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~ 1960: use radio/microwave frequencies to listen for signals from extraterrestrial civilizations, or send signals for them to rece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ry’s still o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I: The Search for Intellige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~ 1960: use radio/microwave frequencies to listen for signals from extraterrestrial civilizations, or send signals for them to rece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ry’s still ou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provides a valuable and unique source of information about the univer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ar mapping of moon &amp;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ing cold gas clouds &amp; star forming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“through” dust &amp; gas to distant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angular resolution through interfer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ing expired stars &amp; stellar remn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ision cosmology via the CMB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provides a valuable and unique source of information about the uni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mapping of moon &amp;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 cold gas clouds &amp; star forming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“through” dust &amp; gas to distant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ngular resolution through interfer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expired stars &amp; stellar rem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sion cosmology via the CM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length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constant speed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constant speed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: late 1700’s/early 1800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: Roentgen – cathode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: Curies et al. – radio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: experiments start with Hertz (1880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ssion/reception of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Marconi, Tesla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using radio waves for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: late 1700’s/early 18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: Roentgen – cathode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: Curies et al. – radio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: experiments start with Hertz (1880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/reception of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Marconi, Tesla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using radio waves for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errestrial) currents in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ed E, B, field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reson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energy electronic tran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al/vibrational mo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(e.g. hyperfine)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chrotron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of charg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 fields, high energies!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, other types of EM rad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hat have been Doppler shift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errestrial) currents in 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ed E, B, field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reson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energy electronic tran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al/vibrational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(e.g. hyperfine)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tron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of charged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 fields, high energies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, other types of EM rad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hat have been Doppler shif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some EM radiation g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” for visible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ome IR als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indow in radi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tty much everything else requires satell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little can be done with high-altitude ballo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ome EM radiation g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 the earth’s atm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” for visible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me IR als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indow in radi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ty much everything else requires satell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little can be done with high-altitude ballo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until ~1900 only visible ligh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y was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re’s so much more to “see!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until ~1900 only visible ligh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 was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re’s so much more to “se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stronomical radio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l Jansky, 1932-1933 (Bell Lab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e sources of radio no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able phased array at 20.5 M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due to thunder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signal that repea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t exactly… 23h 56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dentified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upermassive black hole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l Jansky, 1905-19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tronomical radio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 Jansky, 1932-1933 (Bell La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e sources of radio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able phased array at 20.5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due to thunder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signal that repea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exactly… 23h 56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dentified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permassive black hole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 Jansky, 1905-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l Labs was satisfied with Jansky’s identification of QRN sources… no more studies need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 Labs was satisfied with Jansky’s identification of QRN sources… no more studies need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222-6B19-47E9-9A14-19615CD1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484-31AB-4E65-9F63-6A213238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DAE-66FD-4A65-8580-B6B00C87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61B-3132-4C9E-83EB-1002800C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512-56DF-4D68-BBC6-2252E223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80C-81AE-47B7-860F-E8487EE2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F87-6354-4CAE-AD21-96B2F041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082-565C-4B0C-9313-74AC8C1C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476-D293-4B66-AA58-0A2682ED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9BC-9130-459D-BA39-108C89C1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867-DAA1-482F-9096-90DD7295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CE32-F09F-43A3-9053-FBB0CFC5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1003-8D3E-4EA0-8381-65A93D834B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E480-AE4A-4A6C-96EC-6FBAF72EB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adio Astronomy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stening to the Sk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http://aether.lbl.gov/www/projects/cobe/cmb_fluctuations_big.jpg"/>
          <p:cNvPicPr/>
          <p:nvPr/>
        </p:nvPicPr>
        <p:blipFill>
          <a:blip r:embed="rId1"/>
          <a:stretch/>
        </p:blipFill>
        <p:spPr>
          <a:xfrm>
            <a:off x="5715000" y="4137120"/>
            <a:ext cx="3276720" cy="19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cv.nrao.edu/course/astr534/images/VLA.jpg"/>
          <p:cNvPicPr/>
          <p:nvPr/>
        </p:nvPicPr>
        <p:blipFill>
          <a:blip r:embed="rId2"/>
          <a:stretch/>
        </p:blipFill>
        <p:spPr>
          <a:xfrm>
            <a:off x="246240" y="4108320"/>
            <a:ext cx="2954160" cy="196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oneminuteastronomer.com/wp-content/uploads/2008/06/Grote-Reber-Radio-Telescope.jpg"/>
          <p:cNvPicPr/>
          <p:nvPr/>
        </p:nvPicPr>
        <p:blipFill>
          <a:blip r:embed="rId3"/>
          <a:stretch/>
        </p:blipFill>
        <p:spPr>
          <a:xfrm>
            <a:off x="7086600" y="136440"/>
            <a:ext cx="1990800" cy="2478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www.nasa.gov/images/content/230240main_Pulsar1_sm.jpg"/>
          <p:cNvPicPr/>
          <p:nvPr/>
        </p:nvPicPr>
        <p:blipFill>
          <a:blip r:embed="rId4"/>
          <a:stretch/>
        </p:blipFill>
        <p:spPr>
          <a:xfrm>
            <a:off x="130320" y="76320"/>
            <a:ext cx="195084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>
            <a:off x="2819520" y="2057400"/>
            <a:ext cx="3352680" cy="15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(Re)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te Reber, W9GF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t a 9m parabolic dis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his backyard in 19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ed firs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-sky radi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, 194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his wo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 a post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 boom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amazing-space.stsci.edu/resources/explorations/groundup/lesson/bios/reber/graphics/bio_reber.jpg"/>
          <p:cNvPicPr/>
          <p:nvPr/>
        </p:nvPicPr>
        <p:blipFill>
          <a:blip r:embed="rId1"/>
          <a:stretch/>
        </p:blipFill>
        <p:spPr>
          <a:xfrm>
            <a:off x="6324480" y="1219320"/>
            <a:ext cx="2362320" cy="3016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6409800" y="4235400"/>
            <a:ext cx="198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ote Reber (1911-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www.oneminuteastronomer.com/wp-content/uploads/2008/06/Grote-Reber-Radio-Telescope.jpg"/>
          <p:cNvPicPr/>
          <p:nvPr/>
        </p:nvPicPr>
        <p:blipFill>
          <a:blip r:embed="rId2"/>
          <a:stretch/>
        </p:blipFill>
        <p:spPr>
          <a:xfrm>
            <a:off x="3660840" y="3429000"/>
            <a:ext cx="2571840" cy="320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ile:Reber Plaque.JPG"/>
          <p:cNvPicPr/>
          <p:nvPr/>
        </p:nvPicPr>
        <p:blipFill>
          <a:blip r:embed="rId3"/>
          <a:stretch/>
        </p:blipFill>
        <p:spPr>
          <a:xfrm>
            <a:off x="150840" y="1219320"/>
            <a:ext cx="6478560" cy="53226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r adv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wavelength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amp; integration with studies at other wavelengths: visible, IR, x-ray,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 dishes = more 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ferometry = better angular re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al nature of radio waves: they probe both sedate, slow processes, and some of the most energetic phenomena in the univers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 Astronomy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142640"/>
            <a:ext cx="441972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y observatories spanning the glob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rge-area dishes for high sensi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tremely high resolution via interferomet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rdination between observatories for continuous observ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rdination of observatories at different wavelengths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cing of solar activity crucial to “space weather” forecasting for the health of satellites &amp; electronic equipment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upload.wikimedia.org/wikipedia/en/a/af/Arecibo_Observatory.jpg"/>
          <p:cNvPicPr/>
          <p:nvPr/>
        </p:nvPicPr>
        <p:blipFill>
          <a:blip r:embed="rId1"/>
          <a:stretch/>
        </p:blipFill>
        <p:spPr>
          <a:xfrm>
            <a:off x="5373720" y="1143000"/>
            <a:ext cx="3429000" cy="2716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www.on.br/glossario/alfabeto/v/imagens/vla3_grande.jpg"/>
          <p:cNvPicPr/>
          <p:nvPr/>
        </p:nvPicPr>
        <p:blipFill>
          <a:blip r:embed="rId2"/>
          <a:stretch/>
        </p:blipFill>
        <p:spPr>
          <a:xfrm>
            <a:off x="5257800" y="4098960"/>
            <a:ext cx="3660840" cy="2746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4427280" y="157788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recib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u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3602160" y="5904000"/>
            <a:ext cx="16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ery Large Array (VLA), New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Planets with RAD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: surface obscured by permanent clo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406440" y="2209680"/>
            <a:ext cx="3882960" cy="3613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www.moscowtopnews.com/image/article/1/1/6/2116.jpeg"/>
          <p:cNvPicPr/>
          <p:nvPr/>
        </p:nvPicPr>
        <p:blipFill>
          <a:blip r:embed="rId2"/>
          <a:stretch/>
        </p:blipFill>
        <p:spPr>
          <a:xfrm>
            <a:off x="4876920" y="2209680"/>
            <a:ext cx="3654360" cy="3654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766080" y="601488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ar map by Magellan 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573880" y="6014880"/>
            <a:ext cx="20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le ligh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upload.wikimedia.org/wikipedia/commons/thumb/6/62/Magellan_deploy.jpg/256px-Magellan_deploy.jpg"/>
          <p:cNvPicPr/>
          <p:nvPr/>
        </p:nvPicPr>
        <p:blipFill>
          <a:blip r:embed="rId3"/>
          <a:stretch/>
        </p:blipFill>
        <p:spPr>
          <a:xfrm>
            <a:off x="3817800" y="1523880"/>
            <a:ext cx="2886120" cy="287496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Cold Gas in Galax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5334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 out star formation in galax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 out dynamics of gas clo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mpifr-bonn.mpg.de/public/pr/m31co.23.2.jpg"/>
          <p:cNvPicPr/>
          <p:nvPr/>
        </p:nvPicPr>
        <p:blipFill>
          <a:blip r:embed="rId1"/>
          <a:stretch/>
        </p:blipFill>
        <p:spPr>
          <a:xfrm>
            <a:off x="3429000" y="1268280"/>
            <a:ext cx="2894040" cy="328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www.mpifr-bonn.mpg.de/public/pr/m31.opt.jpg"/>
          <p:cNvPicPr/>
          <p:nvPr/>
        </p:nvPicPr>
        <p:blipFill>
          <a:blip r:embed="rId2"/>
          <a:stretch/>
        </p:blipFill>
        <p:spPr>
          <a:xfrm>
            <a:off x="457200" y="1298520"/>
            <a:ext cx="2666880" cy="32576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609480" y="455616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31 visible light image             M31 in radio at CO reso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http://www.mpifr-bonn.mpg.de/public/pr/picoveleta_medium.jpg"/>
          <p:cNvPicPr/>
          <p:nvPr/>
        </p:nvPicPr>
        <p:blipFill>
          <a:blip r:embed="rId3"/>
          <a:stretch/>
        </p:blipFill>
        <p:spPr>
          <a:xfrm>
            <a:off x="5897520" y="108756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www.mpifr-bonn.mpg.de/public/pr/m31_co_vers2.jpg"/>
          <p:cNvPicPr/>
          <p:nvPr/>
        </p:nvPicPr>
        <p:blipFill>
          <a:blip r:embed="rId4"/>
          <a:stretch/>
        </p:blipFill>
        <p:spPr>
          <a:xfrm>
            <a:off x="6559560" y="1152360"/>
            <a:ext cx="2462040" cy="5254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6867720" y="6477120"/>
            <a:ext cx="14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ppler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Stellar Life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64960" y="2743200"/>
            <a:ext cx="1733760" cy="2486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1957320" y="1195560"/>
            <a:ext cx="4662720" cy="236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971720" y="3581280"/>
            <a:ext cx="3827520" cy="27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15000" y="2971800"/>
            <a:ext cx="2971800" cy="1892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5715000" y="5105520"/>
            <a:ext cx="3129120" cy="15015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lsars: Timekeepers of the Univer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560" y="12949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utron star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oretical idea from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Zwicky (1930’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atio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celyn Bell Burnell &amp; Antony Hewish, 1967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bel Prize (Hewish), 197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8" descr="http://www.nasa.gov/images/content/230240main_Pulsar1_sm.jpg"/>
          <p:cNvPicPr/>
          <p:nvPr/>
        </p:nvPicPr>
        <p:blipFill>
          <a:blip r:embed="rId1"/>
          <a:stretch/>
        </p:blipFill>
        <p:spPr>
          <a:xfrm>
            <a:off x="4290840" y="1109520"/>
            <a:ext cx="2695680" cy="2163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outreach.atnf.csiro.au/education/everyone/pulsars/jocelyn.jpg"/>
          <p:cNvPicPr/>
          <p:nvPr/>
        </p:nvPicPr>
        <p:blipFill>
          <a:blip r:embed="rId2"/>
          <a:stretch/>
        </p:blipFill>
        <p:spPr>
          <a:xfrm>
            <a:off x="6372360" y="2971800"/>
            <a:ext cx="2624040" cy="2371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www.cv.nrao.edu/course/astr534/images/PSRs_discovery.jpg"/>
          <p:cNvPicPr/>
          <p:nvPr/>
        </p:nvPicPr>
        <p:blipFill>
          <a:blip r:embed="rId3"/>
          <a:stretch/>
        </p:blipFill>
        <p:spPr>
          <a:xfrm>
            <a:off x="106200" y="2590920"/>
            <a:ext cx="5380200" cy="26035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nova Remn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4952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emission from shock front: expanding material striking interstellar med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is the best tool for detecting new SNR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http://www.uu.nl/faculty/science/EN/research/researchinstitutes/aiu/research/PublishingImages/casa_jet_si_radio.jpg"/>
          <p:cNvPicPr/>
          <p:nvPr/>
        </p:nvPicPr>
        <p:blipFill>
          <a:blip r:embed="rId1"/>
          <a:stretch/>
        </p:blipFill>
        <p:spPr>
          <a:xfrm>
            <a:off x="115920" y="1263600"/>
            <a:ext cx="4317840" cy="3068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www.astro.psu.edu/users/niel/astro1/slideshows/class29/010-TYCHO_RADIO_SUPERNOVA.jpg"/>
          <p:cNvPicPr/>
          <p:nvPr/>
        </p:nvPicPr>
        <p:blipFill>
          <a:blip r:embed="rId2"/>
          <a:stretch/>
        </p:blipFill>
        <p:spPr>
          <a:xfrm>
            <a:off x="4465800" y="1263600"/>
            <a:ext cx="4678200" cy="30686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607320" y="4332240"/>
            <a:ext cx="76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seiopeia A Supernova Remnant                           Tycho’s Supernova Rem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960" y="5257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visible wavelengths this region is obscured by dus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gr A = galactic center (supermassive black ho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http://www.nrao.edu/pr/2004/filaments/center.JPG"/>
          <p:cNvPicPr/>
          <p:nvPr/>
        </p:nvPicPr>
        <p:blipFill>
          <a:blip r:embed="rId1"/>
          <a:stretch/>
        </p:blipFill>
        <p:spPr>
          <a:xfrm>
            <a:off x="228600" y="1049400"/>
            <a:ext cx="8229600" cy="418284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 4" descr=""/>
          <p:cNvPicPr/>
          <p:nvPr/>
        </p:nvPicPr>
        <p:blipFill>
          <a:blip r:embed="rId2"/>
          <a:stretch/>
        </p:blipFill>
        <p:spPr>
          <a:xfrm>
            <a:off x="8504280" y="901800"/>
            <a:ext cx="401760" cy="44751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5960" y="5257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wavelength over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 = radio, green = infrared, blue = x-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://chandra.harvard.edu/photo/2002/gcenter/gcenter_xray_ir_r.jpg"/>
          <p:cNvPicPr/>
          <p:nvPr/>
        </p:nvPicPr>
        <p:blipFill>
          <a:blip r:embed="rId1"/>
          <a:stretch/>
        </p:blipFill>
        <p:spPr>
          <a:xfrm>
            <a:off x="-304920" y="1292400"/>
            <a:ext cx="9536400" cy="36986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: Maxwell (1860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ght as special case of 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physics.udel.edu/~watson/phys208/formulas/maxwell.gif"/>
          <p:cNvPicPr/>
          <p:nvPr/>
        </p:nvPicPr>
        <p:blipFill>
          <a:blip r:embed="rId1"/>
          <a:stretch/>
        </p:blipFill>
        <p:spPr>
          <a:xfrm>
            <a:off x="5867280" y="1874880"/>
            <a:ext cx="2743200" cy="184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nrc-cnrc.gc.ca/obj/inms-ienm/images/research_images/optical_comb/COMBFIG1.gif"/>
          <p:cNvPicPr/>
          <p:nvPr/>
        </p:nvPicPr>
        <p:blipFill>
          <a:blip r:embed="rId2"/>
          <a:stretch/>
        </p:blipFill>
        <p:spPr>
          <a:xfrm>
            <a:off x="1295280" y="2971800"/>
            <a:ext cx="383868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5689440" y="2666880"/>
            <a:ext cx="3048120" cy="1057320"/>
          </a:xfrm>
          <a:prstGeom prst="rect">
            <a:avLst/>
          </a:prstGeom>
          <a:noFill/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5"/>
          <p:cNvCxnSpPr>
            <a:stCxn id="60" idx="1"/>
          </p:cNvCxnSpPr>
          <p:nvPr/>
        </p:nvCxnSpPr>
        <p:spPr>
          <a:xfrm flipH="1">
            <a:off x="3885480" y="3195720"/>
            <a:ext cx="1803960" cy="107208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6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 Galaxies: Supermassive Black Ho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gtn.sonoma.edu/images/cenA.jpg"/>
          <p:cNvPicPr/>
          <p:nvPr/>
        </p:nvPicPr>
        <p:blipFill>
          <a:blip r:embed="rId1"/>
          <a:stretch/>
        </p:blipFill>
        <p:spPr>
          <a:xfrm>
            <a:off x="152280" y="1295280"/>
            <a:ext cx="4114800" cy="40737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243000" y="5369040"/>
            <a:ext cx="346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ntaurus A (NGC 5128), overla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 and visible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http://outreach.atnf.csiro.au/images/astronomical/images/pks2356-61.gif"/>
          <p:cNvPicPr/>
          <p:nvPr/>
        </p:nvPicPr>
        <p:blipFill>
          <a:blip r:embed="rId2"/>
          <a:stretch/>
        </p:blipFill>
        <p:spPr>
          <a:xfrm>
            <a:off x="4724280" y="1295280"/>
            <a:ext cx="4079880" cy="4073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4876920" y="5486400"/>
            <a:ext cx="39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KS 2536-61.  Radio (red), optical (blu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MB:  Echo of the Big Ba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066680"/>
            <a:ext cx="79246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y prediction of Big Bang The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ak ~ 200 GH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nzias &amp; Wilson, 1964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76 Nobel Pr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BE (1989) 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6 Nobel Prize, Smoot &amp; Ma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MAP (2001), Planck (200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http://www.starstryder.com/wp-content/uploads/2007/05/wmap_skymap.jpg"/>
          <p:cNvPicPr/>
          <p:nvPr/>
        </p:nvPicPr>
        <p:blipFill>
          <a:blip r:embed="rId1"/>
          <a:stretch/>
        </p:blipFill>
        <p:spPr>
          <a:xfrm>
            <a:off x="152280" y="3994200"/>
            <a:ext cx="5791320" cy="2895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www.nps.gov/history/history/online_books/butowsky5/images/astro4k2.jpg"/>
          <p:cNvPicPr/>
          <p:nvPr/>
        </p:nvPicPr>
        <p:blipFill>
          <a:blip r:embed="rId2"/>
          <a:stretch/>
        </p:blipFill>
        <p:spPr>
          <a:xfrm>
            <a:off x="5486400" y="1371600"/>
            <a:ext cx="3629160" cy="2879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5943600" y="4495680"/>
            <a:ext cx="30481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ize scale and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se fluctuations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ingent limits on cosmological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univers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= 13.7 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I: The Search for Intelligent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~ 1960: use radio/microwave frequencies to listen for signals from extraterrestrial civilizations, or send signals for them to receiv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ry’s still ou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http://movie-poster.ws/movies/wallpaper/scifi/et/et2.jpg"/>
          <p:cNvPicPr/>
          <p:nvPr/>
        </p:nvPicPr>
        <p:blipFill>
          <a:blip r:embed="rId1"/>
          <a:stretch/>
        </p:blipFill>
        <p:spPr>
          <a:xfrm>
            <a:off x="4114800" y="33526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4197240" y="4878360"/>
            <a:ext cx="9334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37124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provides a valuable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urce of information about the univer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ar mapping of moon &amp; plan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ing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ing cold gas clouds &amp; star forming 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ing “through” dust &amp; gas to distant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angular resolution through interferom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ng expired stars &amp; stellar remn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ision cosmology via the CMB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133720" y="2495520"/>
            <a:ext cx="69213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14400" y="1407960"/>
            <a:ext cx="728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velength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erg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00080" y="3886200"/>
            <a:ext cx="1752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red: late 1700’s/early 180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s: Roentgen – cathode 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ma: Curie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t al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: experiments start with Hertz (1880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mission/reception of radio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Marconi, Tesla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using radio waves for astronom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t3.gstatic.com/images?q=tbn:ANd9GcQI3pr7GpijWjjRD1K-rTKEas52vPCEtN07b581KXLcS2Nn8Os8zA"/>
          <p:cNvPicPr/>
          <p:nvPr/>
        </p:nvPicPr>
        <p:blipFill>
          <a:blip r:embed="rId1"/>
          <a:stretch/>
        </p:blipFill>
        <p:spPr>
          <a:xfrm>
            <a:off x="6858000" y="1143000"/>
            <a:ext cx="1003320" cy="15717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ion of Radio W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errestrial) currents in w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ed E, B, field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ic reson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-energy electronic trans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al/vibrational m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gnetic (e.g. hyperfine) inter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chro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leration of charged p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ong B fields, high energies!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, other types of EM radi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that have been Doppler shifted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525760" cy="191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6404040" y="3933720"/>
            <a:ext cx="2286000" cy="1822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5195880" y="1071720"/>
            <a:ext cx="1716120" cy="15397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5960" y="1523880"/>
            <a:ext cx="87627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some EM radiation ge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ough the earth’s atmosp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ndow” for visible l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me IR als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her window in radio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tty much everything else requires satelli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 little can be done with high-altitude ballo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160880" y="1447920"/>
            <a:ext cx="475452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1920" y="1523880"/>
            <a:ext cx="76201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 until ~1900 only visible ligh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tronomy was don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t there’s so much more to “see!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160880" y="1447920"/>
            <a:ext cx="475452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62120" y="2584440"/>
            <a:ext cx="2666880" cy="1231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990360"/>
            <a:ext cx="85345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astronomical radio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l Jansky, 1932-1933 (Bell La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e sources of radio no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erable phased array at 20.5 MH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ts due to thunderst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 signal that repe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da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ot exactly… 23h 56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identified wi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upermassive black hol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upload.wikimedia.org/wikipedia/commons/4/4c/Karl_Jansky.jpg"/>
          <p:cNvPicPr/>
          <p:nvPr/>
        </p:nvPicPr>
        <p:blipFill>
          <a:blip r:embed="rId1"/>
          <a:stretch/>
        </p:blipFill>
        <p:spPr>
          <a:xfrm>
            <a:off x="6897600" y="914400"/>
            <a:ext cx="1965240" cy="245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www.nrao.edu/whatisra/images/jansky1.gif"/>
          <p:cNvPicPr/>
          <p:nvPr/>
        </p:nvPicPr>
        <p:blipFill>
          <a:blip r:embed="rId2"/>
          <a:stretch/>
        </p:blipFill>
        <p:spPr>
          <a:xfrm>
            <a:off x="4818240" y="3657600"/>
            <a:ext cx="4157640" cy="3070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6967080" y="339408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arl Jansky, 1905-19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File:Janksy Karl radio telescope.jpg"/>
          <p:cNvPicPr/>
          <p:nvPr/>
        </p:nvPicPr>
        <p:blipFill>
          <a:blip r:embed="rId3"/>
          <a:stretch/>
        </p:blipFill>
        <p:spPr>
          <a:xfrm>
            <a:off x="1447920" y="1447920"/>
            <a:ext cx="5932440" cy="31622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371240"/>
            <a:ext cx="5257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l Labs was satisfied with Jansky’s identification of QRN sources… no more studies need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techbuddha.files.wordpress.com/2009/09/nobody_knows_you.jpg"/>
          <p:cNvPicPr/>
          <p:nvPr/>
        </p:nvPicPr>
        <p:blipFill>
          <a:blip r:embed="rId1"/>
          <a:stretch/>
        </p:blipFill>
        <p:spPr>
          <a:xfrm>
            <a:off x="5130720" y="2514600"/>
            <a:ext cx="3753000" cy="3753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22:33:51Z</dcterms:created>
  <dc:creator>Jeremy P. Carlo</dc:creator>
  <dc:description/>
  <dc:language>en-US</dc:language>
  <cp:lastModifiedBy>Legion</cp:lastModifiedBy>
  <dcterms:modified xsi:type="dcterms:W3CDTF">2017-01-26T10:20:22Z</dcterms:modified>
  <cp:revision>36</cp:revision>
  <dc:subject/>
  <dc:title>Radio Astronomy: Listening to the Sky</dc:title>
</cp:coreProperties>
</file>